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7E15-336C-421F-A1DB-16CD7BC4F9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8F4C-4535-4C54-B44D-E6FF9070953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4E6-A438-4BBE-818D-914C1D37D37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B231-398D-4ED4-9956-C454D9C4CF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276-7E95-4E2E-A1EE-A050772B0BD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1A18-7428-4448-8D15-1053688E71D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519E-1854-4207-93A6-7E8E8A6B8E0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0C4-2855-4D1F-8762-FD3959063CF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8EC-654F-47F8-8DAC-6B460F71B1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B43C-E6B5-4BE2-80F0-104FD3245AA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FFB-1828-421B-A80C-3E87F64ACB0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5CCA-3B0D-4A25-89A3-F3F10CAC62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682B-5FA1-4AB7-AAB7-7FB00D2ECC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BBD-2B54-424F-9C65-D8591080944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BF2F-A6B9-43C7-965B-16DC6D8B7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956C-5161-4A68-A810-27B27A65F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238E-D822-489F-98A8-E948EE52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470E-6E69-481F-8F3A-E6FA6BBA7C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1855-664D-4542-B1B0-23C7E3B5F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289B-AC83-4BA8-B60A-379D01DA2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DEA6-64D3-4590-9AFF-F320D6D1D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6A81-03A7-4E21-AFCD-08FB9F81C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234C-EC01-4333-B345-79D88D184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4BD2-0479-4A76-AE7C-CFA0ABD88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2762-B1FA-4DDA-8FF4-A9A486368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E79C-0DD5-494E-8EEE-835148483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0EFE-CAEC-4B6F-91AA-EE3CAAC1C3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2-18T12:10:53Z</dcterms:modified>
  <cp:revision>97</cp:revision>
  <dc:subject/>
  <dc:title>2006년도 식품의약품안전청 공개발표 선정평가    ℹ 사 업 명 :   ℹ 과 제 명 :   ℹ 연 구 비 :   ℹ 신청기관 :   ℹ 주관연구책임자 :</dc:title>
</cp:coreProperties>
</file>